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67D7-3147-450A-9673-00DA35095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8141-7076-4F15-91AD-A92AD9D21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8254-0D7A-4CEA-B10E-20CF7460F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BB99-2DDC-4AE5-8CE7-5D05F8D24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16CA-CFCA-4532-BDC1-F6251A8EC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A68F-9FCD-479C-9563-6ACEE03E7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CE9A-8913-431A-83AD-4D915DCBA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2113-608B-4C02-B771-1BFED2BE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B2EA-918B-4988-8C47-CC04261D0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12B3-64D7-4B24-8604-05CBDE08B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2F6B-648A-413A-89D8-DA6F94F59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CBA2-89AA-44BC-9F9D-A1368F8E3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05DA43-2BA6-41B9-8AD8-FEA540B83C03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24T09:10:12Z</dcterms:modified>
  <cp:revision>85</cp:revision>
  <dc:subject/>
  <dc:title>No Slide Title</dc:title>
</cp:coreProperties>
</file>